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BF8-14A6-4B0C-A684-116C353C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434-9D9C-41CB-B036-659D63D0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E15-84C1-4CE7-B62F-FC4BFB0D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922-B5A2-46B9-A16A-4C8E6CC9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7CD1-5230-421E-81C1-53BE9BE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6DE-7AC7-4ED7-85F2-746F876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6261-405D-4988-B580-40568A6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1523-4ABF-4F69-B907-7A089E6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5A0D-5B98-4100-8A5E-D8CCED5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23D9-50DD-4AC2-BE21-1A02EDC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B728-149E-4C5B-81D0-5CBA08F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797-C924-4A00-9577-0174231B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F513-80F5-4F8D-BAB7-02E35EF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BD2-900A-4617-ADF4-B02C5328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5CA7-3F02-4A96-B149-63FA1B33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31C-25F6-4C05-A327-A9D162E6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32D5-6139-446E-B69D-170A6B6C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7F58-F341-4B42-A127-F4455A33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5E9D-8FB5-405B-85F6-1ED311BA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E52E-DF9C-4AE3-BECF-EAD765A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1CB9-3644-4611-AE7C-E73C1AA1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9506-C556-4937-AF47-57E71FC5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DB5-CAD8-49C8-921F-253E525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1F92-7B30-4454-AD0E-22B8A3B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11CC-8A26-4B9B-9823-A380CFA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DE03-F35D-4E41-98EE-55B245C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8BB1-5BFC-4822-A024-15056A7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308D-5833-4722-B8EB-D41D32C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D495-D0BE-4C5E-8797-20D0949A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A658-709D-46E6-BF88-7B12A6CA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FB58-A932-4315-8DF7-3A496C9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4C7A-6750-4EFF-A6E7-1CF9AE6C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54BF-BD4A-4053-8EF4-9B1D3259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2F7-C34F-49D9-BEA1-15E45A2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547F-79D5-40ED-8067-AA13C24C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5FCF-7BA9-448A-893F-9BDDD077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E1C48-BA99-4C20-95B5-52843492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3E8D-FC2C-4C9C-A8B4-80E29C6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851D-79F4-4E9A-82F8-FD36401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AF62-34E4-4A0A-B7E1-C0D47EA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5453-DF8E-4996-A118-1B03C8A4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9363-A309-40E9-8428-C53D444B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95D2-8A8E-44D4-B09C-10498E75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736-453A-4C24-B4AF-850CEBDD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9ED-62C6-4B29-B51A-1512D4F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558-AE63-468F-95D5-1A0A83C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8A2-7E0A-4C2F-8C36-D303959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4FC-5458-4294-A740-B9067CC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8D4E-8ABA-40CB-BA8E-FA98F30ED5C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832-6DA3-423B-8AF0-5AD8D43A89A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F9B-BD87-498E-9EEB-EE5073D9E07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3D18-F3A4-4198-A43C-4453E7B9F9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589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 помощью координат нарисуйте фигур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3); (0; 3); (-3; 2); (-5;2); (-7;4); (-8;3); (-7;1); (-8;-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-7;-2); (-5;0); (-1;-2); (0;-4); (2;-4); (3;-2); (5;-2); (7;0); (5;2); (3;3); (2;4); (-3;4); (-4;2); глаз(5;0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8" descr="BD13772_"/>
          <p:cNvPicPr/>
          <p:nvPr/>
        </p:nvPicPr>
        <p:blipFill>
          <a:blip r:embed="rId1"/>
          <a:stretch/>
        </p:blipFill>
        <p:spPr>
          <a:xfrm>
            <a:off x="214200" y="428616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Рисунок12"/>
          <p:cNvPicPr/>
          <p:nvPr/>
        </p:nvPicPr>
        <p:blipFill>
          <a:blip r:embed="rId2"/>
          <a:stretch/>
        </p:blipFill>
        <p:spPr>
          <a:xfrm>
            <a:off x="2857680" y="3286080"/>
            <a:ext cx="5638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3; 0); (1; 2); (-1;2); (3;5); (1;7); (-3;6); (-5;7); (-3;4); (-6;3); (-3;3);    (-5;2); (-5;-2); (-2;-3); (-4;-4); (1;-4); (3;-3); (6;1); (3;0); глаз (-1;5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2" descr="J0213513"/>
          <p:cNvPicPr/>
          <p:nvPr/>
        </p:nvPicPr>
        <p:blipFill>
          <a:blip r:embed="rId1"/>
          <a:stretch/>
        </p:blipFill>
        <p:spPr>
          <a:xfrm>
            <a:off x="642960" y="521496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Рисунок13"/>
          <p:cNvPicPr/>
          <p:nvPr/>
        </p:nvPicPr>
        <p:blipFill>
          <a:blip r:embed="rId2"/>
          <a:stretch/>
        </p:blipFill>
        <p:spPr>
          <a:xfrm>
            <a:off x="2928960" y="2214720"/>
            <a:ext cx="55627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519</cp:lastModifiedBy>
  <dcterms:modified xsi:type="dcterms:W3CDTF">2010-05-28T04:52:27Z</dcterms:modified>
  <cp:revision>2</cp:revision>
  <dc:subject/>
  <dc:title>Фигуры по координатам</dc:title>
</cp:coreProperties>
</file>